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275D-264F-4637-B957-A6BD33295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612D-E804-48D6-8D93-295DB803CDB3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15C8-AAB8-45E8-9769-C47EA5898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37A43-1DC0-4618-B175-D616A3AB9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259E-38A6-41BB-A67D-50E5C2852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C3FF5-FA42-40B4-8A30-38E494FC9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96ADE-EEED-4273-B1C1-44E70E1C21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4C793-77D2-4A14-B949-31B8EEC900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033B9-EE08-4170-8CF5-35CD70A9AF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B63AF-B919-4F9E-994C-4D037A2DFE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374C7-ECF1-4A25-9777-9E7C5BC8D2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B11C2-E17B-487D-97A9-D3CB84E264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9C23B-5E04-4853-8E26-9255A01308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6500-B40C-41CE-B643-681553A0B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92327-1646-4F0A-BE64-6B63E08C2F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FB318-E8C9-451B-9E04-938BC24072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CB5C4-170F-4626-BF92-076B4EF75F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E9D1E-7E43-489D-B5D8-F0C1111CC0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4B9EC-32F0-4F2B-A8D2-97F08B640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9FC5-0F72-4ED6-87C2-518CA6291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B8E0-0227-48FF-9237-D5D8DC54B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951E-CE56-421E-AB4C-BB23101E8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4BCC-2951-4E02-B374-DB6587030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1348-FC32-478D-9674-7D310884E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8F51-0619-4EA3-86CB-9C0621E83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6C77-F5D5-43B8-AA31-F849E4612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691AE690-1E40-4C45-87BC-5F5E84E09D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(#) - </a:t>
            </a:r>
            <a:fld id="{92AF827C-DAFE-4027-A369-0505BA71C6E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BB84B2F9-75A8-43E5-89B6-F97D6BFE772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on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9D321DD-B2F0-4E7D-B306-29701586D93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specific form of acceptance required, must comply or acceptance in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ilateral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ptance is performa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:  reward po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is not usually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51B23DB-D2B6-4742-858B-1BB858F91F3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t-box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to rule that acceptance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use of mail is a reasonable form of acceptance, acceptance is effective when and where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applies to telegrams and possibly cou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es not apply to facsimile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D1B781B8-4BDD-4042-92F8-5E778A93A5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exchange of benefits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money, services, goods, prom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promises (gratuitous promises) are not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reasonable, but benefit must be s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6C5B120-CA7C-4E2B-9C10-8F9B6FA216A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ossible, legal, and of som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for services –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must pay a reasonable amount for services requested and r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sideration has already been given, it cannot support a new contract (i.e. “past consideration is no consideration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9D80D573-AD00-4E73-B10E-DACA743BF9D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an change contract obligations, but all parties must receive “new”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atuitous promises not binding on promisor with some exce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less in full satisfaction of debt is binding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Promissory Estoppel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– reliance on gratuitous promise may be used as a defenc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ith a seal, no need to establish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378C9C02-9745-4915-A296-B4D9F3D895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re never was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are free from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arty has the right to escape the contract; contract valid until this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4B6C0B99-B7A3-4354-846A-24D8CF66E9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721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020182F-3A1A-423A-B143-23D22122132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ants – voidabl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one under the age of majo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act is binding on the adult, but not on the inf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s in many provinces for necessities and beneficial contracts of service (but not in B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infant ratifies contract (in writing or by implication) after becoming an adult, he/she is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fants liable for their own t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7CCB781C-426E-414E-9E99-3E686B702D0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anity or intoxication - To escape a contract for non-necess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show you were so insane/intoxicated that you did not understand transaction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party to contract knew or should have known of the insanity/intoxic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repudiate contract as soon as possible when sanity/sobriety is reg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B50523E0-3FF1-493F-9A19-152217CBBC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tory bodies may have limited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Crown corporations, municipalities,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governments and represent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plomatic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s Indians under the curren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ia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pacity is limited to some extent to protect from explo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9DCFD570-3153-4381-BDD9-A552D4F311F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ssential elements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process by which consensus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valid offer and effective 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rinciple of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 requirements of capacity and leg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lement of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a written documen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7C8A41A5-4631-4B84-BE01-B0BCCB09970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s that have unlawful objective or illegal consideration ar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may be set out in sta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ntracts must be intended to cover a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tates agreements that unduly limit competition are prohib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42F619CA-011C-4CAC-AC75-6B5C10CB8F0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ve covenants permissible only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blic interest is not ha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s usually won’t enforce restrictive covenant against employees if it prevents earning a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7F4C51BC-9EED-470C-89CF-13985B93F33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must intend legal consequences to result from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uld a reasonable person have thought he/she was entering into binding contr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C744C361-7E8F-45EE-A269-E0F3428518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mestic/So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er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ly reasonable perso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3CE615E2-0D09-4AB0-81B4-418FA116B98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ways good practice to put contract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erbal contract often just as binding i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ment of writing varies by jurisdiction (i.e., set by statu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st jurisdictions have electronic documents 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8AA0D545-1DB0-4E70-9D0C-50A43C2DBE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certain transactions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purchase of land, long-term leases, assuming responsibility for debt, contracts over one year, marriage contracts, sales of goods of certai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writing is required but absent, contract is unenfor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performance may satisfy requirement for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consistent with existence of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D65D608-2422-4DC9-98FB-EDE21224A2E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– a voluntary exchange of promises or commitments that are enforceable in our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law mostly developed in the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E40A527-13D1-4C8B-A348-008CBE4E4F6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ss of offer and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ome to a common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rms must be clear and unamb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66294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36D5F2B-FE18-4885-A92B-EBF4918797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tative promise that contains the terms of the anticipated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itations to treat are not o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advertisements, catalogues,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must contain all important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, property, and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terms may also b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1E1F893-5476-479C-B30C-141460F53D7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verbal or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ommunicated at the time of entering the contract, not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on receipt, sign, or any way that it is brought to the attention of the other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B7EC73FA-BE52-43E9-B2CE-4B903D64878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specific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ath or insanity of offe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vocation (if communic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nter-offer (acts as rej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tion agreement – keeps offer open for a specifi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8F97F270-E64D-4FA8-ADB5-B3727982C78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Form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bargain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mbiguities interpreted in favour of the party forced to accept th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ontroll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63FA938-D398-442E-9E32-078BC7AF1E8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eptance – commitment by offeree to be bound by terms of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plete and un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dition of any terms = counter-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effective when and where commun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0:54Z</dcterms:created>
  <dc:creator>Client Name</dc:creator>
  <dc:description/>
  <dc:language>en-US</dc:language>
  <cp:lastModifiedBy>User</cp:lastModifiedBy>
  <dcterms:modified xsi:type="dcterms:W3CDTF">2012-04-24T16:08:42Z</dcterms:modified>
  <cp:revision>91</cp:revision>
  <dc:subject/>
  <dc:title>Slide 1</dc:title>
</cp:coreProperties>
</file>